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5F4094-185A-4337-87A9-0CAD69B6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B602E-7C7F-4D43-9CB7-7C448A4B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B8EB67-E0B0-4950-B906-D603CDA3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80AACE-56BC-4EAB-809E-EF1FBEAB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91D17-FFBD-467B-BD3F-EC416CE7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918016-0216-4979-A464-BC76CA9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FA0EA8-2187-416B-A982-9E7A86AD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14E71D-DFE7-4AD5-84D7-5264E3E1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69942C-092A-4F36-A818-6DFF5E93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66A1E-9CBC-4010-B555-4397652D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FFC7EE-DFA8-47D5-B261-4B6E914D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5E89C2-A2EF-4B54-A9ED-F0C1C77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E41DD0-F1C5-4568-A65A-92F00C4B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EC4F83-D246-4D1F-AA07-3E8854DE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6D7515-DABE-44F4-BE55-7028C91C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5143EE-C6DE-4F26-99DF-37C87E9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D0FB4D-C810-4B1E-8079-8F86923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DC1AFE-C21F-4EE7-A604-6CBEF1FA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5F3DD9-9B91-4FA1-8DE5-60C482B0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A46AAA-0666-47BC-807E-DCA53C88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2148B-9A54-4B6E-92DC-FCBF78B4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A18-1933-482A-B5AB-83D7666D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344-CDBC-4659-BE25-D2849A6E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67B-5E01-4435-AD9B-B31FA577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62FE87-7DFF-4B20-A0B8-5EA7517F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2ED086-9245-4939-A2A0-F0425D64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384B21-9202-4F97-A730-2D93B6EE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5C2-DE8C-47E2-B023-5794186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60355A-04FE-427C-987A-3A5753DE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6CAA9E-AF79-4690-9349-20F9B548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5A060E-92B2-4A1E-937B-6BC409D3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FE832F-571E-414C-B589-569EFD5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194791-6645-465C-A288-76928E3F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0FF0E1-E8A1-4225-9DCD-D95199EA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ED9CB7-F5CB-4AE7-B710-9842F681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89306A-8DAB-49F7-9C7F-F4DB0869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802045-2EF8-4636-BCCC-CAF698CE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7027A2-962D-4B76-97ED-CDB6739E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FB0-4575-4ADE-AE66-2E649D47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75A0F3-3632-4528-A926-7CA814D1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47940F-39B9-43A6-BAAA-458B41AA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E8535E-FA20-4BD5-A470-F559026B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0C592F-346F-46D1-9ABD-ACCF79DE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E5E56F-8384-4673-A115-58C59EE7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4123D6-B7F3-463F-8306-13A6E5D3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15505E-35A5-4733-8F1A-4F074904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964E1A-62C5-43F4-A037-C2CA624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C64402-9F26-49FF-A95D-E95F85A5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DB74CF-2F34-432B-9D30-58A7B16A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F07-8560-4C76-BB1D-C456401E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7F8AF2-A758-4E36-8634-FBFF3F4F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E43A00-E9C5-4A16-BDB4-9E4C00D0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AE4638-7573-4981-931D-C4E820E2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FF4DE8-00A0-4878-ABB1-A40E352B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E1117B-E208-466E-A4E5-473801F7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11FF78-EAF6-4A89-AC05-D1A4881D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6FF954-9414-4EF6-8A1D-81E5C3CC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C61AC4-015E-4FFF-8439-137672E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E34F56-08D3-4CAC-AB73-7BF5F88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85BA7A-E305-4523-A481-2283AE92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F94-6A85-4B3A-BEA6-4FD4FA4A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7868E5-3CD4-4376-97CA-1EB9EE36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BB2093-AC15-4B8C-B3C8-C98D827A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4DA41D-572F-499E-AECA-58B25E9B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5F4F7B-F262-408E-953F-C392F761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5A9515-C6CF-4419-BAD1-39768A14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48F01F-7786-485D-8D2A-F0B02A8F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D9DD99-3098-4876-AC96-B4A34177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D1893C-D574-42DC-ADDB-E8196E93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6E44FD-1EBA-44FB-A596-88BC43BB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3C82BD-7A0D-4156-89E9-8B1CBB12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30D-2C4E-433E-AB94-EE0894FE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A59808-39B8-43F1-B6E3-9775A5A3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46155C-46E1-4B9A-9360-6335D0F9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5D61181-8D65-4B96-B330-4B5A6E70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EC370C-5428-4BED-A952-C7700143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846D51-3148-4C73-B352-5F98342B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6B8-8AEB-4F76-8D68-B3AB38F0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324-CBA4-48E1-86A7-EE535F0F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207-C935-49CC-AE74-662D8EED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05B-4A46-4A95-84E1-3066BD36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DAE89-A5A0-4EE8-8F4B-5D28420C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D4E90-14F7-4423-BC08-5F0AECD5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4D960-CAAC-4BD4-A781-21624212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4141D-572E-4270-9F97-9E3E5EA4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5F6AD-2E09-4A81-B3D1-DA3C64A3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9E605-091C-4BF3-BD30-317E717B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7F42D-1E2E-486C-A998-5A889047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E33B2-5468-47A8-A091-89C59450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58C80-B13A-49B5-A5FA-49438CF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8B367-30FD-43EC-B22B-60607F4E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FCCDA-E823-4D9B-B58D-4AC0452D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F91E1-552E-4434-AB66-094282F6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1BD54-0ABE-428F-939E-88DD4237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83113-DE3F-4F46-9346-D26FBB33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09D66-FB49-45B1-94EE-B27A46F5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2EDE1-29EC-4EC9-A999-8BE7B65B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7D51F-A80C-4F6F-9560-497FF42E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AAB31-0ED4-4041-A871-A3783199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02205-596E-4878-9B7E-4D6BACDC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338EE-6994-4713-A21F-8682D8F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919BD-9173-4012-97E0-B7FF12D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FCC69-35B2-49CE-871D-1A3B071E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E609D-C4AB-4731-9CF9-F84A2538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65DAF-C8D3-40DA-B7B2-EA39090D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BAE8F-4F9E-4FFA-98E7-8B0F7600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C1DB4-539E-445A-97C9-6BA8012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6D17E-B735-41DB-B803-658A4D27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7757F-A1F8-453E-8D15-92A85B11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91A30-429E-499E-85C7-EDCBCB3D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0275A-1F42-470E-9641-AAC883A8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1EF9B-552A-4D99-B42C-90DC67BE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A2F03-8BEE-477E-B1BE-D86D6536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78CA0-96DC-4068-9F06-D073174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06A45-27F7-4954-A164-61715AE1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127A4-2C48-4184-B872-75B98D9D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F1FE8-73A0-4977-91BC-D97FCA54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6FE62-5172-48C8-B859-ABB85DA6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DFCFA-8D46-46DA-A16F-BC0CE774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7988A-4677-4982-BAC8-CC94351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42A0D2-2150-40F8-932D-BE2A40D6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48833-629C-4C04-8B9D-AFCE5A38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631A5-9185-4768-927C-54F15CAC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18B46-EB33-4509-BAAE-BCF29F86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3B833-B4D1-44E5-9E12-DF1E7B6C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6067F-EEF3-4A5A-A665-E1719572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02868-E0FA-4DB1-A37B-47F4780C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B5DEE-ABD3-4953-AE00-BE9F6E5E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4AB21-7F9A-4109-B1B6-901D89C6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99D7D-FF67-422F-80DA-B947F4C6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99B32-97DD-471F-9CE6-70B5BB40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2214D-3076-489A-832B-641377F0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6A929-49AE-4B7B-A9B3-73110C38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1C7D6-8E0F-4107-ABAA-65CCF6A7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-360" y="45720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A9554-906A-4D17-A792-10EDCC84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D85DF-B006-42F3-A418-1EBB737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4F1CC-B64F-4E27-B5B3-4085A0C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F7943-E99D-4B53-A25D-E080F4DF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3992040"/>
            <a:ext cx="8115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C6A65-BDCD-4C53-82B3-2A45076A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67480" y="152388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67480" y="3992040"/>
            <a:ext cx="39600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48560-BDD5-4054-9432-66BDEADF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5304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6960" y="152388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5304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96960" y="3992040"/>
            <a:ext cx="261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211C8-D6D1-4152-9871-4D7B95E6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866A9B-66D5-4AE6-8459-8E1096EE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D7751A-9180-4978-AB5F-E1DD39BC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A3F03-DC09-40C0-95C3-4DA241A1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hyperlink" Target="http://creativecommons.org/licenses/by-nc-sa/3.0/us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5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331C5-59A5-4BEF-B1F3-1A37D35BDE67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96911-A321-4532-A519-2144DAE06177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465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6A46D-BD4E-42B0-B0AC-59217CC6C0B8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2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76B05-9D04-4D4A-B120-EF5B2059B69A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555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4DE21-3089-4018-86F1-6DDB34B2286D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83263-5C88-4449-B982-D09C1DD5284C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DF2E6-0F23-4BE6-90D7-D9032028552A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646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AB397-E622-40D4-9A04-47C599EAE3AC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8EB00-6790-4332-B794-BAF888DE3659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692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2008 Brueck and Bru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7475C-4745-4AB7-84DE-F3B3E5AF61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738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5" descr=""/>
          <p:cNvPicPr/>
          <p:nvPr/>
        </p:nvPicPr>
        <p:blipFill>
          <a:blip r:embed="rId3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2008 Brueck and Bru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B997C-B6AB-45FD-AAED-2B4312EBD0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B85AC-9142-40A8-9108-37E830894240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B95BE-8595-4CB9-A124-81C3637C0277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05609-3F3B-4145-8436-E1A0851C29D3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9F377-6473-47EF-95D0-430529B19989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2DBBD-DA69-4658-9607-77BAF58F923C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B250E-F836-47AA-AE10-D941AF9926AE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82953-F8FF-4172-9575-F4515755FBB6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231" name="Straight Connector 9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3AC2B-DFB3-4006-A44B-21F0B720DA3C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F9B6E-2EFE-431D-BCA1-57F6025DEE37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8C57C-0B07-49F8-A745-9A3CD148069B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10BD1-FF53-429A-9261-5C6FB21CC816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12225-5E85-44C7-BE0D-DCF5870950BE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55CD6-9C8D-48C5-BE0E-E291077A8F16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Brueck_logo_SMALL.jpg"/>
          <p:cNvPicPr/>
          <p:nvPr/>
        </p:nvPicPr>
        <p:blipFill>
          <a:blip r:embed="rId2"/>
          <a:stretch/>
        </p:blipFill>
        <p:spPr>
          <a:xfrm>
            <a:off x="76320" y="6330960"/>
            <a:ext cx="1317600" cy="3445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8"/>
          <p:cNvSpPr/>
          <p:nvPr/>
        </p:nvSpPr>
        <p:spPr>
          <a:xfrm>
            <a:off x="1547640" y="6642000"/>
            <a:ext cx="635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This work is licensed under the Creative Commons Attribution-Noncommercial-Share Alike 3.0 United States Licens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99480" y="6667560"/>
            <a:ext cx="1015920" cy="1904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BCCDF-40B0-4E63-8BC9-3819131DF923}" type="datetime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9230F-0A02-4BEF-A8AD-3D335ACB3537}" type="slidenum"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mportant Word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2893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entury Gothic"/>
              <a:ea typeface="Arial"/>
            </a:endParaRPr>
          </a:p>
        </p:txBody>
      </p:sp>
      <p:pic>
        <p:nvPicPr>
          <p:cNvPr id="783" name="Picture 3" descr="11881628-566x849.jpg"/>
          <p:cNvPicPr/>
          <p:nvPr/>
        </p:nvPicPr>
        <p:blipFill>
          <a:blip r:embed="rId1"/>
          <a:stretch/>
        </p:blipFill>
        <p:spPr>
          <a:xfrm>
            <a:off x="1903320" y="457200"/>
            <a:ext cx="2206800" cy="14716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" descr="9369913-566x848.jpg"/>
          <p:cNvPicPr/>
          <p:nvPr/>
        </p:nvPicPr>
        <p:blipFill>
          <a:blip r:embed="rId2"/>
          <a:stretch/>
        </p:blipFill>
        <p:spPr>
          <a:xfrm>
            <a:off x="4951440" y="452520"/>
            <a:ext cx="2211480" cy="14763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5" descr="5321863-756x504.jpg"/>
          <p:cNvPicPr/>
          <p:nvPr/>
        </p:nvPicPr>
        <p:blipFill>
          <a:blip r:embed="rId3"/>
          <a:stretch/>
        </p:blipFill>
        <p:spPr>
          <a:xfrm>
            <a:off x="4110120" y="457200"/>
            <a:ext cx="98100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click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7" name="Picture 9" descr="computer_snapping_finger250"/>
          <p:cNvPicPr/>
          <p:nvPr/>
        </p:nvPicPr>
        <p:blipFill>
          <a:blip r:embed="rId1"/>
          <a:stretch/>
        </p:blipFill>
        <p:spPr>
          <a:xfrm>
            <a:off x="762120" y="2286000"/>
            <a:ext cx="3733560" cy="2987640"/>
          </a:xfrm>
          <a:prstGeom prst="rect">
            <a:avLst/>
          </a:prstGeom>
          <a:ln w="0">
            <a:noFill/>
          </a:ln>
        </p:spPr>
      </p:pic>
      <p:pic>
        <p:nvPicPr>
          <p:cNvPr id="788" name="ClipArt Placeholder 8" descr="12493511-566x849.jpg"/>
          <p:cNvPicPr/>
          <p:nvPr/>
        </p:nvPicPr>
        <p:blipFill>
          <a:blip r:embed="rId2"/>
          <a:srcRect l="0" t="-22164" r="0" b="-22164"/>
          <a:stretch/>
        </p:blipFill>
        <p:spPr>
          <a:xfrm>
            <a:off x="4648320" y="19810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link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648320" y="25142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he </a:t>
            </a:r>
            <a:r>
              <a:rPr b="0" lang="en-US" sz="3600" spc="-1" strike="noStrike">
                <a:solidFill>
                  <a:srgbClr val="0000ff"/>
                </a:solidFill>
                <a:latin typeface="Century Gothic"/>
              </a:rPr>
              <a:t>link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Underlined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Different </a:t>
            </a:r>
            <a:r>
              <a:rPr b="0" lang="en-US" sz="3600" spc="-1" strike="noStrike">
                <a:solidFill>
                  <a:srgbClr val="0000ff"/>
                </a:solidFill>
                <a:latin typeface="Century Gothic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91" name="Picture 9" descr="41405D9BX2L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scroll   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3434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ve up and down on a WEB pa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and drag the SCROLL BA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or </a:t>
            </a:r>
            <a:r>
              <a:rPr b="0" lang="en-US" sz="2400" spc="-1" strike="noStrike">
                <a:solidFill>
                  <a:srgbClr val="009900"/>
                </a:solidFill>
                <a:latin typeface="Century Gothic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rrow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94" name="Picture 4" descr=""/>
          <p:cNvPicPr/>
          <p:nvPr/>
        </p:nvPicPr>
        <p:blipFill>
          <a:blip r:embed="rId1"/>
          <a:srcRect l="65938" t="16690" r="0" b="0"/>
          <a:stretch/>
        </p:blipFill>
        <p:spPr>
          <a:xfrm>
            <a:off x="1295280" y="1905120"/>
            <a:ext cx="2421000" cy="4289400"/>
          </a:xfrm>
          <a:prstGeom prst="rect">
            <a:avLst/>
          </a:prstGeom>
          <a:ln w="0">
            <a:noFill/>
          </a:ln>
        </p:spPr>
      </p:pic>
      <p:sp>
        <p:nvSpPr>
          <p:cNvPr id="795" name="Line 6"/>
          <p:cNvSpPr/>
          <p:nvPr/>
        </p:nvSpPr>
        <p:spPr>
          <a:xfrm flipH="1" flipV="1">
            <a:off x="3715920" y="3123720"/>
            <a:ext cx="1236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7"/>
          <p:cNvSpPr/>
          <p:nvPr/>
        </p:nvSpPr>
        <p:spPr>
          <a:xfrm>
            <a:off x="3352680" y="1905120"/>
            <a:ext cx="53352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8"/>
          <p:cNvSpPr/>
          <p:nvPr/>
        </p:nvSpPr>
        <p:spPr>
          <a:xfrm>
            <a:off x="3352680" y="5867280"/>
            <a:ext cx="533520" cy="457200"/>
          </a:xfrm>
          <a:prstGeom prst="ellipse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edit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the way something look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dd to it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ake something away. (delete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rrect a mistak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Edit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dd to i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dog is barking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big</a:t>
            </a:r>
            <a:r>
              <a:rPr b="1" lang="en-US" sz="2000" spc="-1" strike="noStrike">
                <a:solidFill>
                  <a:srgbClr val="bbc0ac"/>
                </a:solidFill>
                <a:latin typeface="Century Gothic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entury Gothic"/>
              </a:rPr>
              <a:t>hairy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dog is barking 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loudly</a:t>
            </a:r>
            <a:r>
              <a:rPr b="1" lang="en-US" sz="2000" spc="-1" strike="noStrike">
                <a:solidFill>
                  <a:srgbClr val="800080"/>
                </a:solidFill>
                <a:latin typeface="Century Gothic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2" name="Picture 5" descr="hairypuppy"/>
          <p:cNvPicPr/>
          <p:nvPr/>
        </p:nvPicPr>
        <p:blipFill>
          <a:blip r:embed="rId1"/>
          <a:stretch/>
        </p:blipFill>
        <p:spPr>
          <a:xfrm>
            <a:off x="3200400" y="3886200"/>
            <a:ext cx="270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Edit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ake something away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big, hairy dog is barking loudly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2819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bc0ac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, hairy dog is barking loud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5"/>
          <p:cNvSpPr/>
          <p:nvPr/>
        </p:nvSpPr>
        <p:spPr>
          <a:xfrm>
            <a:off x="1676520" y="312408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6" descr="hairypuppy"/>
          <p:cNvPicPr/>
          <p:nvPr/>
        </p:nvPicPr>
        <p:blipFill>
          <a:blip r:embed="rId1"/>
          <a:stretch/>
        </p:blipFill>
        <p:spPr>
          <a:xfrm>
            <a:off x="6215040" y="4038480"/>
            <a:ext cx="2700360" cy="253368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8"/>
          <p:cNvSpPr/>
          <p:nvPr/>
        </p:nvSpPr>
        <p:spPr>
          <a:xfrm>
            <a:off x="380880" y="396252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bc0ac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iry dog is barking loud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Edit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rrect a mistak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dog wos barking loudl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1905120" y="2438280"/>
            <a:ext cx="609480" cy="381240"/>
          </a:xfrm>
          <a:prstGeom prst="rect">
            <a:avLst/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457200" y="3962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bc0ac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g        barking lou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7" descr="hairypuppy"/>
          <p:cNvPicPr/>
          <p:nvPr/>
        </p:nvPicPr>
        <p:blipFill>
          <a:blip r:embed="rId1"/>
          <a:stretch/>
        </p:blipFill>
        <p:spPr>
          <a:xfrm>
            <a:off x="6248520" y="4114800"/>
            <a:ext cx="2700360" cy="25336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457200" y="3962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bbc0ac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914400"/>
          </a:xfrm>
          <a:prstGeom prst="rect">
            <a:avLst/>
          </a:prstGeom>
          <a:solidFill>
            <a:srgbClr val="12622e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save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15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ERY IMPORTAN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Keep your chang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you EDIT, make sure you SAV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8:19:51Z</dcterms:created>
  <dc:creator>Jeremy Brueck</dc:creator>
  <dc:description/>
  <dc:language>en-US</dc:language>
  <cp:lastModifiedBy>Jeremy Brueck</cp:lastModifiedBy>
  <dcterms:modified xsi:type="dcterms:W3CDTF">2009-07-04T19:54:59Z</dcterms:modified>
  <cp:revision>10</cp:revision>
  <dc:subject/>
  <dc:title>Web 2.0 for Elementary Social Studies</dc:title>
</cp:coreProperties>
</file>